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C37-895C-4EB5-A9BE-62A9CC0D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1F5-DA7A-408C-857D-D80ABB2F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3F4-6E94-401F-806A-8CDF1DFA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6AA-695A-4387-98D4-819230E8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22EE-2BAB-4BC4-9EC4-D651C4FF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1CE9-D10E-4099-BFAB-A05B1CE8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B02D-6A71-4A2E-AC2A-51F94A9E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2FF5-C2B4-4E86-A1CD-70EE0FBC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A40C-6E23-487E-A21A-7F6F3719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3C52-A5E5-4273-82C5-A6190BF0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B03F-34AC-435D-A911-99FE3357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A8A-EED5-49F4-AA38-A5B51879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3AC3-D11D-455F-AA06-22F2AAE1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0217-0CE9-45F1-BF9D-1222F280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0205-8D0A-4A0E-85FF-756D7A11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F963-F30D-4F72-85AE-44CA1403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4240-B853-47AA-8BDD-A7E7E5D0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8CD-1E5E-4304-9FE4-EA66FEA3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7BE-3527-4673-B284-73006FD6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D8F-6C30-42B7-AEC3-32103B5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955-FBCB-4D27-8E58-9C81D882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436-C180-4CD6-819B-94021441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2BB-D276-438D-AA13-17271549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B4D-BA8B-4B3F-B47F-4FAF27E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9669-3EE9-42F7-AF38-93D85DEDCD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74FE-F497-4706-8AD6-2B9E0F9228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Emulateur Java Car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Projet de fin d’étud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ENSIMA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24 juin 200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530064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Luke Jack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Imperial College, Lond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ecSaf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ojet européen pour rechercher la viabilité de l’analyse statique pour les grands systè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ystèmes Internet et systèmes carte à pu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analyse statique est l’analyse structurelle d’un logiciel: l’analyse est faite sans exéc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nalyse de types peut se faire sans exéc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nalyse de valeurs ne peut pas se faire sans exéc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nalyse statique d’un logiciel peut se faire automatiquement par un out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arm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nçu pour faire subir des preuves sur le langage de la machine virtuelle Java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euves d’une propriété fait sur Java exigent une preuve additionnelle pour montrer que la compilation préserve la proprié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Ni la compilation ni la preuve ne sont triv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Représentation textuelle d’un fichier .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Facilite la définition des sémantiques et preu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Facilite la communication entre huma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armel - Exe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3446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ackage p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ublic class Number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int value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ublic C(int value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// super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// appel implici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this.value = value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40000" y="2349360"/>
            <a:ext cx="5003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Carm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ackage p { 0x00,0x00,0xAF,0x05,0x01 }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ublic class Number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int value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public void &lt;init&gt;(int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0: load r 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1: invokedefinite Object.init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2: load i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3: putfield this valu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4: retur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Buts de proj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odélisation d’un Java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cture des applets définis en Carm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terprétation des applets qui respecte les sémantiques opérationnelles (machine virtuel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terface graphique pou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xposer l’état de la mach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imuler l’interaction avec un lecteur de ca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ontrôler l’exécution des applets (pas à p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Buts de proj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xécution depuis le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nception modulaire pour que les composants puissent être réutilis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x: pour développement d’un analyseur stat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ai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Quatre mois ne sont pas suffisants pour tout faire, et donc des omissions étaient permi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hoix init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rchitecture côté cl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lus réac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ermet une interface plus riche que l’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rès proche de Carmel, permet l’implémentation directe des opérateurs, valeurs primitif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ulti plateforme et donc très adapté à l’exécution du We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Outils (générateurs de parseurs, etc.) disponi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On est sur que les utilisateurs ont installé Ja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artie 1 – Chargement des appl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hargement en plusieurs p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xer: fait l’analyse lexic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rser: fait l’analyse grammatic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Tree Builder: construit l’arbre syntaxique abstra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inker: résout des liens symbol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Verifier: vérifie que certaines propriétés sont respectées afin d’assurer la sécuri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ackage Loader: gère les passes et met en cache des paque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Choix de générateur de lexer/pars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un JavaC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op dow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upport « action code 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1 000s d’utilisate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NT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rès similaire à JavaC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Ne supporte pas Uni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ort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ableC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op dow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Génère obligatoirement un arbre syntaxique concr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mpose des décisions sur la concep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JLex/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Bottom 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ifficile à débogu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Choix de générateur de lexer/pars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u… manuelle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ustomisation complète vers le lang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l aurait pris trop longtem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Bogues facile à faire mais pas facile à débogu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Normalement moins effic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ourquoi JavaC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Beaucoup de docu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n développement acti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 plus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arser/Lex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mplémentation à partir d’une grammaire existante pour 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uppression des productions inuti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Redéfinition de la production pour les expr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Transtypage et/ou négation suivi par une const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éfinition des nouvelles produ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Un bloc d’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s 30 instruction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n implémentant le parseur, j’ai défini la syntaxe concrète de Carm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Un Java Card est une carte à puce qui exécute des « applets »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Un projet en collaboration avec SecSafe, un projet europé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vant de donner les buts de projet, on commence avec le context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Tree Buil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mplémenté par « action code 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haque production devient une métho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n peut insérer du code dans une production pour faire de la vérification et pour construire les nœuds de l’arbre syntaxique abstra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méthode retourne soit un nœud, soit l’attribut d’un nœ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ink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inker à deux p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ésolution de références vers les classes et les champs – peut charger des paque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ésolution de références vers les méth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ourquoi deux pass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viter les boucles infinies quand deux paquetages se référenc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ermettre la résolution des méthodes surcharg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ourquoi deux pass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2781360"/>
            <a:ext cx="3168720" cy="2860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ackage a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lass A 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b.B referenc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ublic void main() 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// invocation B.test(c.C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2781360"/>
            <a:ext cx="2951280" cy="2860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ackage b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lass B 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a.A referenc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ublic void test(c.D) { …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ublic void test(c.C) { …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059280" y="2997360"/>
            <a:ext cx="2017440" cy="79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066920" y="2997360"/>
            <a:ext cx="1152360" cy="79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140360" y="4508640"/>
            <a:ext cx="1152360" cy="28872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2421000"/>
            <a:ext cx="50508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4797360"/>
            <a:ext cx="115236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lgorithme de chargement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nalyses lexicale et grammaticale, construction d’arbre syntaxique abstra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emière passe du lin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paquetages référencés sont chargés avec étape 1 seul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pres la première passe, étape 2 est exécuté sur tous les paquetages chargés en étape 2.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euxième passe du lin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ous paquetages référencés sont déjà chargés jusqu’à l’étape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pres la deuxième passe, étape 3 est exécuté sur tous les paquetages chargés en étape 2.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lgorithme de chargement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mplétion sans erreu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aquetage et tous ses paquetages référencés sont chargés, et donc ils sont tous mis dans le cac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rreur en chargeant un paquetag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Tous les paquetages en train d’être chargés sont abandonn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artie 2 – Interpré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nterprétation à partir de l’arbre syntaxique abstra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l a fallu respec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sémantiques opérationnelles définies par SecSaf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spécification de la machine virtuelle Java Card par Sun, qui référenci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spécification de la machine virtuelle 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Comment interpréter une instruc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Une instruction est référencée par une référence de type Instruction, une classe abstraite qui est le parent de toutes les instr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onc, on a besoin du type dynamique de l’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l y a plusieurs solution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olution 1: instanceo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30 if-else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effic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olution s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une solution orientée obj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for each instruction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if (i instanceof x)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x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else if (i instanceof y)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y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else if (i instanceof z)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z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etc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else { /* ??? */ 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olution 2: IDs numér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haque instruction a un champs ID avec un ID numérique uni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ffic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a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as orienté obj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D est redonda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programmeur doit assurer que les ID sont uniques, donc pas sû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Facile a oublier le « break; 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for each instruction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switch (instruction.ID) {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case Instruction.X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x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case Instruction.Y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y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case Instruction.Z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interpret z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etc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default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// ???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olution 3: méthodes virtuel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a méthode invoquée dépend du type dynami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Orienté obj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ffic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a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Ajout d’une opération = ajout d’une métho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hangement d’une opération = recompilation des 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as d’état conservé entre les 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for each instruction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instruction.interpre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abstract class Instruction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abstract void interpre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class InstructionX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 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extends Instruction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void interpret(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// interpret 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artes à Pu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Quelques exemp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artes bancaires (débit, crédit, monnaie électroniqu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artes S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artes télépho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artes d’identification pour se connecter aux réseau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artes contre le piratage de la télévision numér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Solution Finale: Visitor Design Patter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05080" y="2349360"/>
            <a:ext cx="662148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5229000"/>
            <a:ext cx="7693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ouble appel de méthode: une opération implémente les méthodes de Visitor pour s’exéc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Visitor Design Patter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pport pour plusieurs opé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terprétation, Link passe 1, Link passe 2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Tout le code pour une opération est regroup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ossibilité de conserver un état entre instru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hangement ou ajout d’une opération </a:t>
            </a:r>
            <a:r>
              <a:rPr b="0" lang="fr-FR" sz="2400" spc="-1" strike="noStrike">
                <a:solidFill>
                  <a:srgbClr val="003366"/>
                </a:solidFill>
                <a:latin typeface="Arial"/>
                <a:ea typeface="Arial"/>
              </a:rPr>
              <a:t>≠ recompilation des instru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  <a:ea typeface="Arial"/>
              </a:rPr>
              <a:t>Efficace et orienté obj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Java Card Fra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Ensemble des cla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lasses du système: Object, Exception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implifier la communication avec le lecteur de ca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ire de la cryptograph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 y a une quarantaine des classes et plusieurs méthodes natives a impléme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200+ pages de spécifications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éthodes natives exigent une modification de la syntaxe et de la conception pour les exécu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e n’ai implémenté que les classes du systè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artie 3 – Interface Graphi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hoix entre AWT et S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WT (Abstract Windowing Toolki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mplémenté par le système d’exploi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eulement les composants en commun sont supporté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wing (ou JFC – Java Foundation Clas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mplémenté en Ja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Grande choix des composants riches et extensi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oins rapide que AW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J’ai choisi Swing parce que l’interface est complexe et la vitesse n’est pas si importa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Model-View-Controller Design Patter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modèle donne accès a l’état ou aux donn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a vue s’abonne avec le modèle pour mettre à jour sa représentation graphique du modè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ontrôleur s’effectue des modifications sur le modèle suite aux actions de l’utilisate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716360" y="2508120"/>
            <a:ext cx="360684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Model-View-Controller Design Patter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odèles, Vues, Contrôleurs sont définis par des interf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jout et changement des vues, modèles, contrôleurs sans changement de co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pproche modula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rôles des objets sont bien défi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ouplage légère entre compos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Modèles et Evén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2349360"/>
          <a:ext cx="7693200" cy="436104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dè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énement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semble des paquetages chargé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argement d’un paquetag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 contenu du t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éation d’un obj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 pile des appels de méthod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éthode invoqué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our de méthod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gram Count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angement de valeu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 pile des opérand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mpilement d’opérand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épilement d’opérand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 variables local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angement d’un valeu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1773360"/>
            <a:ext cx="71229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662800" cy="568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8000" y="1700280"/>
            <a:ext cx="655560" cy="865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ntrôl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ppels de méth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ppel de méthodes statiques sans paramèt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réation des objets par constructeur défa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ppel de méthodes d’instance sans paramèt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xécution pas à p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outons « Step Into », « Step Over », « Step Out 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« Halt 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Implémentation de « Step 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eux threa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pour l’interface graphi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pour l’interpré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Variable « wait » partagé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vant chaque instruction l’interpréteur appelle une méthode du machine virtuel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i wait == true, le thread est suspend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lique sur « Step 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wait = false, notifie le thread qui se réveil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bonnement d’un « listener » qui fera wait = true si l’état est tel qu’il faut attend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artes à Pu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artes mémoire (memory car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ocesseur: non, opérations prédéfin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émoire: ~2K EEPR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ix: 1-2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artes intelligentes (chip car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ocesseur: typiquement 8- ou 16-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émoire: ~16K ROM, ~16K EEPROM, ~1K 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rix: 5-10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ancement depuis le We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hoix entre Java Applet et Java Web Sta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ava Appl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onçu pour petites applications (applets) qui s’affichent dans un page We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avigation vers une autre site et fermeture du browser terminent l’exécution d’un appl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ava Web Sta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stallation automatique en cliquant un li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Le programme est lancé du disque d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érification qu’il n’existe une nouvelle ver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Installé avec JDK 1.4, MacOS X.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’ai choisi Java Web Start parce que le programme n’est pas lié à un site Web, et n’a pas besoin d’accès résea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émonst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hargement d’un appl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rrection d’un err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xéc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 site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Résult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rser / Linker / Verifier du langage Carm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éfinition de la syntaxe concrè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achine virtuelle Java C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nterface graphique pour exposer l’état interne et contrôler l’exécution des appl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éveloppée avec communications régulières avec les utilisate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ite Web et installation automatique par le W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ntroduction et mode d’emploi dispon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aractérist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éutilisation des décisions de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Visi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odel-View-Control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olution modulaire qui permet l’extension et réutilisation des compos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ouplage faible entre Loader – Interpréteur – G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mélio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l y a une problème avec le chargement des paquetages du disque dur avec Web St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 va falloir implémenter la recherche de « classpath » manuell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e serait mieux d’aligner les piles pour qu’ils commencent d’en bas et puis m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si simple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Exten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l n’y avait pas du temps pour implémen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Une analyse de flot des données pour vérifier la sûreté des types avant l’exéc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framework des classes et méthodes natives pour modéliser l’interaction entre le lecteur de carte et la c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xtensions intéressa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reak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outon « Back 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Exten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 développement du programme va être continuer par les membres de SecSaf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ddition de Java Card frame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ddition d’un analyseur statique pour faire des preuves sur les appl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 vou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vant Java C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766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ystèmes d’exploitation fermés, souvent très couplés à l’application qui tournait sur la ca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élange de code d’application et code de système d’exploi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 portabilité entre OS ou CP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rogrammation en assembleur et 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Bas nivea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s objets, méthodes virtuelles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Pourquoi Jav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Java est un langage répandu, de haut niveau, et orienté obj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pport multi-platefor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odèle de sécurit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Originalement conçu pour protéger le système du code téléchargé de l’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pport de l’ajout dynamique d’applets dans la ca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Java Card v Ja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imilarité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urs syntaxes sont largement similai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amiliarité pour ceux qui connaissent Ja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s sont compilés en bytecode et puis interprétés par une machine virtu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xécution multi-plateforme sans recompil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ls ont une bibliothèque de cla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développeurs peuvent se concentrer sur le code spécifique pour leurs app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Java Card v Ja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ifféren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 grands types primiti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.e.: entiers 64-bit, nombres flottants, caractères, chaînes de caractères, tableaux multidimensionn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ntiers 32-bit optionn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 thre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 chargement de classes dynam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Pas de récupération de mémoire (Garbage Collec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Compilation d’un applet Java C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ompilation Java normale, de .java à .cl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Conversion en format CAP (Converted APple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étection de caractéristiques non supportées en Java Ca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Remplacement de noms par jetons numériq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Enregistrement de noms et leurs jetons dans un fichier EX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8720" y="2421000"/>
            <a:ext cx="747396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2T11:39:29Z</dcterms:created>
  <dc:creator>Luke Jackson</dc:creator>
  <dc:description/>
  <dc:language>en-US</dc:language>
  <cp:lastModifiedBy>Luke Jackson</cp:lastModifiedBy>
  <dcterms:modified xsi:type="dcterms:W3CDTF">2002-06-24T15:34:16Z</dcterms:modified>
  <cp:revision>11</cp:revision>
  <dc:subject/>
  <dc:title>Interpréteur « Carmel » basé sur le We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